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F43-D371-45CA-88C5-8B0642D8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A4D9-A49B-40E3-B1B7-ACF3DDC5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418-C43D-4E66-815D-90ED708A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D36-06D8-4452-B525-34669957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022-A716-4C27-90BF-A5F0AF0B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FD3-F8D6-43C5-8045-76E8E47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5833-25AC-48FA-B45F-6B381EE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5340-91EA-45D2-A295-609756EC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F2F-8785-44D9-8656-01E896F3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79A-14A3-4D48-9BD8-047C240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42D-7C59-4440-9239-E4BC3284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813-FB4B-433D-9845-A40995A8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A9D-4271-4383-9FB2-F529D10A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960" y="304920"/>
            <a:ext cx="6810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Mini Projec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9400" y="3429000"/>
            <a:ext cx="319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Angel De La 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nando Sa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Cat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4440" y="53352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2560" y="3124080"/>
            <a:ext cx="40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why the fossil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gaps and what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oing to fill the g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533520"/>
            <a:ext cx="51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4920" y="2306520"/>
            <a:ext cx="75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: the state of being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ities green spa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00" y="4267080"/>
            <a:ext cx="83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ization: the act of being foss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any of the bones of organisms millio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ago have gone through the proces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s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80" y="343368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8400" y="30492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re Key Wor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N.A.-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It is the specific sequence of bases that constitutes the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962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Genetic Data: facts and statistics of or relating to genes or here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04920"/>
            <a:ext cx="695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Scientis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re Do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27672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are using the early forms of the organis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ter forms of the organisms and just mak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form of the organisms between those two. One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formation that we found w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2:07:56Z</dcterms:created>
  <dc:creator>Mulholland  Middle School</dc:creator>
  <dc:description/>
  <dc:language>en-US</dc:language>
  <cp:lastModifiedBy>Mulholland  Middle School</cp:lastModifiedBy>
  <dcterms:modified xsi:type="dcterms:W3CDTF">1970-01-01T03:47:01Z</dcterms:modified>
  <cp:revision>2</cp:revision>
  <dc:subject/>
  <dc:title>PowerPoint Presentation</dc:title>
</cp:coreProperties>
</file>